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826-8745-4F12-8EA6-D1566554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1A2-7745-4D23-A909-82384CF3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991-B33F-45E7-A05A-2A6AFABF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74B-C4DB-4B5A-98BE-9810534B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004-CF37-43DA-A46A-A2F3647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F3A-24B0-467F-A1C9-60B7073F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47E-1A0E-4B6E-9EAD-D343313E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87C-FD3C-4DF0-9A7E-6EF6217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01F-8E3F-4529-B9FB-34862CD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E23-508D-41AF-AF2C-3D642ED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765-E135-4126-9FD4-6634F2A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829-03AB-4C5F-A100-F39DCD3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CDB7-28B3-4C4A-88B9-0DE22951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2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7 de en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to learn body and sports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ke sure you conjugate it! Don’t leave it the s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6-01-26T18:28:43Z</dcterms:modified>
  <cp:revision>65</cp:revision>
  <dc:subject/>
  <dc:title>Me llamo _________        Clase 7 IM La fecha es el 4 de noviembre del 2010</dc:title>
</cp:coreProperties>
</file>